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085E-3456-44EE-88EA-33BBECFB2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 is encouraged to present the view that he favors most in his own diligent study of all the passages involved.  But, since this is a summary lesson and cannot bog down in a lot of discussion, I will present a general outline and point out those clearer explanations given by Mark or Lu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347-6AEE-4DD6-ABCE-F27E4F42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5D3-CAF4-4C7D-B8D1-ABEFEBB0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A46-2DDB-48C4-8244-B624BFB8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65C-7A67-4CC0-804B-048A35F6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16F8-C527-4184-A488-1DA05B2F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232D-FD42-4AC8-89D1-9BDC4798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7208-D2F0-4374-90C3-F0152ACB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3D65-FA00-4C9B-80DA-7211395A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8124-B7DD-4078-A783-20B57C50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C024-1300-41E2-BEE4-387B0D2D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1EEC-C1B0-486E-812C-5B836FBA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646-3739-4255-94A2-8B693358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BDD9-2BD3-4E74-937A-818D2C79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43FE-3A3E-48A4-879D-B44E707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28E5-55B2-44A6-8894-7C74310F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8132-D0C4-469C-860E-2D59331D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710E-04E3-46C2-BEFD-7F0F3F99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08A-E187-4837-92D1-319F9B44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662-E191-44F7-8EF3-CEF07CBE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267-426E-4F0B-B35E-6729CFE8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A97-EE7B-45EC-86B1-C2F879B0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378-1A70-4CD5-B7E6-C8F7CDE9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CEF-BD8F-4413-927A-CD75B734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703-968A-4F71-868B-D97B70E8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F8FE-33D2-42B5-8B86-A8C29F9D4EE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D8FC-BF60-4E90-92E6-01BE1FC1E5D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Life of Christ, Part 2</a:t>
            </a:r>
            <a:br>
              <a:rPr sz="4000"/>
            </a:b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“Sir, We Would See Jesus”</a:t>
            </a:r>
            <a:br>
              <a:rPr sz="4000"/>
            </a:b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arter 10, Lesson 1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g. 144-15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k 13; Matt.24; Luke 21:5-3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743200" cy="20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5397-2CA3-4B56-9F26-54CBE6030A89}" type="slidenum">
              <a:t>1</a:t>
            </a:fld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wo Views On Matthew 24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Topic is ALL About The Coming of the Lord in Judgment On Jerusal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anguage of Apocalyptic Judgment Used in God’s previous judgments on Israel, Assyria, Egypt, and Babylon is used 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tthew ADDS a topic of the Lord’s Second Coming To The Discussion of the Fall of Jerusal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rk and Luke did not include 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discussion of the Second Coming starts after Matt.24:3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EE1-7837-4378-BDE0-EBB8176DE6FB}" type="slidenum">
              <a:t>2</a:t>
            </a:fld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Anguish of Jes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would rather gather and protect his people – Matt.23:37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, Israel has not been willing – 23:37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esus will have to leave the “house” (the temple) DESOLATE – 23:38-3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statement leads the disciples to ask WHEN this will happen and what SIGNS would lead up to this ev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89C-F60C-447B-878B-A884E1D6FE98}" type="slidenum">
              <a:t>3</a:t>
            </a:fld>
          </a:p>
        </p:txBody>
      </p:sp>
    </p:spTree>
  </p:cSld>
  <p:transition spd="med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Impact of Temple Destruc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uld END the Age of Juda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Priestly system would be l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Place for Jewish worship would be l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Political and Religious POWER of the Jewish leaders would be destroy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blood of righteous prophets they murdered would be “avenged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esus Would Be Seen (Perceived) As The Power Directing The Salvation of His Saints and The Destruction of Judaism’s Cen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A3A-8CFC-46FB-8B13-5B779D972FB7}" type="slidenum">
              <a:t>4</a:t>
            </a:fld>
          </a:p>
        </p:txBody>
      </p:sp>
    </p:spTree>
  </p:cSld>
  <p:transition spd="med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Temple Destruction Discusse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rophecy – “Not one stone will be left upon another” – Matt.24:1-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Inquiry of when – vs.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igns of Times Leading Up To This Climactic Ev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ime of Apostasy – with false prophets and false messiahs – 4,5,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ime of anarchy and wars – 6-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ime of apathy regarding devotion – 12-1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ime of affliction and persecution – 9-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ime of accomplishment of spreading the gospel - 1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D11-3261-416A-A756-94D6E972B67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Other Signs Preceding The Climactic Fall of Jerusa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crating the temple with sacrilegious objects – prophesied in Daniel (9:27; 11:31; 12:11)– Matt. 24:15-2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elect will be informed to flee to the mountains (believing Jesus would pay off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ristians could escape before the Roman army sealed off all exit routes (See Lk.21:2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believing Jews would remain and suffer the siege and destru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will seem to be the darkest of days - 2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C55-D484-4129-A316-94B5F92809CB}" type="slidenum">
              <a:t>6</a:t>
            </a:fld>
          </a:p>
        </p:txBody>
      </p:sp>
    </p:spTree>
  </p:cSld>
  <p:transition spd="med">
    <p:checker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pocalyptic Languag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darkening of the Sun, Moon, and Sta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Riding or Coming on the Clou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figurative, dramatic expressions of the Lord’s coming in a judgment of destruction against a city or count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t does not refer to the complete end of the world in this context (though it severely ends the Jewish world as they knew it the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milar language was used by Isaiah about Babylon’s fall – Isaiah 1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milar language is used by Ezekiel regarding the fall of Egypt – Ezekiel 3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hese ended their world as they knew it, but was not an end to the whole worl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37D-6BCE-410D-8207-0C04BB15991D}" type="slidenum">
              <a:t>7</a:t>
            </a:fld>
          </a:p>
        </p:txBody>
      </p:sp>
    </p:spTree>
  </p:cSld>
  <p:transition spd="med">
    <p:checker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is Gene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the language up to verse 34 of Matthew 24 is about the coming of the Lord in judgment on Jerusa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at very generation would see it 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nal fall of Jerusalem took place in AD 7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11F-F63F-4CE5-8144-48419F849252}" type="slidenum">
              <a:t>8</a:t>
            </a:fld>
          </a:p>
        </p:txBody>
      </p:sp>
    </p:spTree>
  </p:cSld>
  <p:transition spd="med">
    <p:checker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91440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oday, the Jews Continue to “WAIL” at the Wailing Wall, and the Muslim’s Dome of the Rock stands where the temple once stoo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3880" y="297180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C87-4FB8-45A9-8C03-A9FAC95EAD29}" type="slidenum">
              <a:t>9</a:t>
            </a:fld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22:40:42Z</dcterms:created>
  <dc:creator>Terry W. Benton</dc:creator>
  <dc:description/>
  <dc:language>en-US</dc:language>
  <cp:lastModifiedBy>Frank D Vines</cp:lastModifiedBy>
  <dcterms:modified xsi:type="dcterms:W3CDTF">2006-08-16T02:44:07Z</dcterms:modified>
  <cp:revision>4</cp:revision>
  <dc:subject/>
  <dc:title>Life of Christ, Part 2 “Sir, We Would See Jesus” </dc:title>
</cp:coreProperties>
</file>